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28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B9EB-B8A5-4F39-A303-CCADC28C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DE3-5CE5-4F72-ABD8-389B0DF0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F18-85E3-4B64-A439-A5922018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13B-6E87-46A1-BDDE-DC467E38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0857-079F-47D5-8519-0C35C960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DAEB-D51A-409A-9A65-1DB1FB07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5F7B-6233-4CDF-9BD7-D7B9221E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CEB1-E244-4F99-864A-BBEF5CD1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C2DF-E09F-4010-AFF9-9274284F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EF46-7260-44BF-9642-785B62FF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E3BB-1B2D-4997-B4C7-10B186FF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F35-0B1A-4038-A31D-BCBABBDB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094C-E627-4F6C-B133-2B18D7C4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B434-BE7B-4A02-B6EE-2EACE2FC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53BB-FF8F-4760-A80B-1E07E144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8D2A-7887-4565-B167-E83FA5F7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E1F9-0085-4C18-A4D4-B54C1B42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4A3D6-846A-4B6F-AA79-DC7FF9AB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EB09C-EFDB-4014-9AA2-9C34F29F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AD940-B859-4CFD-BFBC-4E51E817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4596A-6AD3-4BCE-A643-056618B8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D072-664A-4CE9-A73E-96628702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609-C3C9-435C-A493-B330B6A0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E2C13-3B2A-4C59-9B3F-55C26172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8D6E1-ED13-4472-9DE7-496014A1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76EF5-9BBD-41A8-BEF5-FCA60484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5F992-B36C-4E12-92D7-2E86134E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C3A7F-D0DC-4E2A-A5A8-323F3EE2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F02EF-A8C1-466B-B832-E8CC02A7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76885-9FE8-4D20-9494-405DAFAE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61E09-3B5F-4DE5-9746-E807DAF2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9FDD2-E11A-4941-A7A2-22B5D456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F034F-3B43-427D-B0B9-36817E68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0DE-AB33-4438-BD03-0D56D518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744FC-E68F-410B-9303-8DE2F88D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52D12-5586-41D6-9C98-CB4AB4FA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D8A92-35D8-4CDC-8B19-CB4C79E6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EEA12-F922-48E2-A4B4-1BADE276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C802A-3099-4DD6-A725-85EE2058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8D24F-111C-44BA-B22B-1577BC81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C8242-EB04-43A6-B43F-AA047967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EA12F-D837-42CA-AB32-60AFDB65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613D5-51F8-434B-AD82-B8488B43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30FAB-0DA5-42AA-B5E7-59C9E5A2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8A4-51DC-489F-AB1E-F94F6A86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B4397-93E9-4D22-92B2-A6EAAF6E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7711F-6011-49F4-95C0-E6A30ED6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91886-5AD9-4240-AA9A-61F2FA8E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88406-5898-4290-846B-C9903E7E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FEC9D-E5F4-4C08-9B2D-5428037B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E1900-E158-495B-91B4-A88FCE7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8379B-622F-4419-BB20-915814DB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640DC-F102-4EB4-A7CF-435E94B7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000B5-D4DA-48F3-8E1A-C759F8E0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21B13-558A-4264-8C86-52A0B710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327-9CDC-4013-AC42-ED16B7AA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58A27-B8DF-492F-9504-D09985EF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C9B-9132-4BDF-8D74-E2FC7D12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6F4-88DD-4F6F-A9B0-9D594999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417-2B69-48EA-BEC4-E4D4F5F0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217C-7CE7-4315-A357-457FA70BA90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E35B-D5BC-4FBE-B5A2-D731A8D6654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9D59-DD10-40A8-AB0F-7701603271A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213F-3ABC-4CFD-A46F-FAABBCFE578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6FEB-91B2-4F16-BE07-BE4B242059A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zdorov.com.ua/Alko1.jpg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www.med74.ru/img/zablud/12-22.jpg" TargetMode="External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6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jpeg"/><Relationship Id="rId3" Type="http://schemas.openxmlformats.org/officeDocument/2006/relationships/hyperlink" Target="http://www.roxi.ru/users/88/1254_big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86800" cy="1305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4" descr="2571-l1"/>
          <p:cNvPicPr/>
          <p:nvPr/>
        </p:nvPicPr>
        <p:blipFill>
          <a:blip r:embed="rId2"/>
          <a:srcRect l="0" t="14160" r="0" b="15041"/>
          <a:stretch/>
        </p:blipFill>
        <p:spPr>
          <a:xfrm>
            <a:off x="3124080" y="1981080"/>
            <a:ext cx="2343240" cy="2811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609480" y="1219320"/>
            <a:ext cx="83757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4" descr="97973viig157eimyz0g4"/>
          <p:cNvPicPr/>
          <p:nvPr/>
        </p:nvPicPr>
        <p:blipFill>
          <a:blip r:embed="rId2"/>
          <a:stretch/>
        </p:blipFill>
        <p:spPr>
          <a:xfrm>
            <a:off x="200160" y="0"/>
            <a:ext cx="2935080" cy="3352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699090_20041023132959"/>
          <p:cNvPicPr/>
          <p:nvPr/>
        </p:nvPicPr>
        <p:blipFill>
          <a:blip r:embed="rId3"/>
          <a:srcRect l="0" t="0" r="0" b="21973"/>
          <a:stretch/>
        </p:blipFill>
        <p:spPr>
          <a:xfrm>
            <a:off x="4191120" y="106668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куриль"/>
          <p:cNvPicPr/>
          <p:nvPr/>
        </p:nvPicPr>
        <p:blipFill>
          <a:blip r:embed="rId4"/>
          <a:stretch/>
        </p:blipFill>
        <p:spPr>
          <a:xfrm>
            <a:off x="4952880" y="3429000"/>
            <a:ext cx="3330720" cy="3429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kurilschik"/>
          <p:cNvPicPr/>
          <p:nvPr/>
        </p:nvPicPr>
        <p:blipFill>
          <a:blip r:embed="rId5"/>
          <a:stretch/>
        </p:blipFill>
        <p:spPr>
          <a:xfrm>
            <a:off x="1447920" y="3200400"/>
            <a:ext cx="311148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1060560" y="73080"/>
            <a:ext cx="7931160" cy="1384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2209320" y="2666520"/>
            <a:ext cx="6775560" cy="34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rebuchet MS"/>
              </a:rPr>
              <a:t>-  Пить – здоровью вредить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rebuchet MS"/>
              </a:rPr>
              <a:t>-  от алкоголя происходят значительные нарушения мозга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rebuchet MS"/>
              </a:rPr>
              <a:t>-  нарушается сон, теряется голос;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Picture 4" descr="Картинка 70 из 103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685800"/>
            <a:ext cx="211464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396720" y="225360"/>
            <a:ext cx="8595000" cy="10000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4" descr="Картинка 92 из 11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1981080"/>
            <a:ext cx="2451240" cy="38862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5"/>
          <p:cNvSpPr/>
          <p:nvPr/>
        </p:nvSpPr>
        <p:spPr>
          <a:xfrm>
            <a:off x="3962520" y="5309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Не ломай себе жизн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вредные"/>
          <p:cNvPicPr/>
          <p:nvPr/>
        </p:nvPicPr>
        <p:blipFill>
          <a:blip r:embed="rId4"/>
          <a:srcRect l="15369" t="0" r="4787" b="15950"/>
          <a:stretch/>
        </p:blipFill>
        <p:spPr>
          <a:xfrm>
            <a:off x="4572000" y="1905120"/>
            <a:ext cx="3657600" cy="2979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387360" y="380520"/>
            <a:ext cx="875664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ru-RU" sz="5600" spc="-1" strike="noStrike">
                <a:solidFill>
                  <a:srgbClr val="ff0000"/>
                </a:solidFill>
                <a:latin typeface="Trebuchet MS"/>
              </a:rPr>
              <a:t>Жизнь прекрасна! </a:t>
            </a:r>
            <a:endParaRPr b="0" lang="en-US" sz="56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0000"/>
                </a:solidFill>
                <a:latin typeface="Trebuchet MS"/>
              </a:rPr>
              <a:t>Не потрать ее напрасно!</a:t>
            </a:r>
            <a:endParaRPr b="0" lang="en-US" sz="5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4" descr="kostro2b"/>
          <p:cNvPicPr/>
          <p:nvPr/>
        </p:nvPicPr>
        <p:blipFill>
          <a:blip r:embed="rId2"/>
          <a:stretch/>
        </p:blipFill>
        <p:spPr>
          <a:xfrm>
            <a:off x="1447920" y="2438280"/>
            <a:ext cx="6400800" cy="4241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155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1155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1155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1155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155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1155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1155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1155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4" descr="srdvd348big"/>
          <p:cNvPicPr/>
          <p:nvPr/>
        </p:nvPicPr>
        <p:blipFill>
          <a:blip r:embed="rId2"/>
          <a:stretch/>
        </p:blipFill>
        <p:spPr>
          <a:xfrm>
            <a:off x="914400" y="205740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i"/>
          <p:cNvPicPr/>
          <p:nvPr/>
        </p:nvPicPr>
        <p:blipFill>
          <a:blip r:embed="rId3"/>
          <a:stretch/>
        </p:blipFill>
        <p:spPr>
          <a:xfrm>
            <a:off x="4419720" y="1752480"/>
            <a:ext cx="3402000" cy="25336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1609560" y="298440"/>
            <a:ext cx="7382160" cy="1384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4" descr="1151760644_828834315"/>
          <p:cNvPicPr/>
          <p:nvPr/>
        </p:nvPicPr>
        <p:blipFill>
          <a:blip r:embed="rId2"/>
          <a:stretch/>
        </p:blipFill>
        <p:spPr>
          <a:xfrm>
            <a:off x="2286000" y="1981080"/>
            <a:ext cx="5105520" cy="4686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1371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Times New Roman"/>
              </a:rPr>
              <a:t>            </a:t>
            </a:r>
            <a:r>
              <a:rPr b="1" lang="ru-RU" sz="6000" spc="-1" strike="noStrike">
                <a:solidFill>
                  <a:srgbClr val="cc3300"/>
                </a:solidFill>
                <a:latin typeface="Times New Roman"/>
              </a:rPr>
              <a:t>ВРЕДНЫЕ ПРИВЫЧКИ- КЛИЧ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Rectangle 2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762120" y="1927080"/>
            <a:ext cx="82231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4000" spc="-1" strike="noStrike">
                <a:solidFill>
                  <a:srgbClr val="cc3300"/>
                </a:solidFill>
                <a:latin typeface="Trebuchet MS"/>
              </a:rPr>
              <a:t>Запомните пословицы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rebuchet MS"/>
              </a:rPr>
              <a:t>На обмане далеко не уедешь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rebuchet MS"/>
              </a:rPr>
              <a:t>Ложь дружбу губит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rebuchet MS"/>
              </a:rPr>
              <a:t>Ври , да знай меру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Trebuchet MS"/>
              </a:rPr>
              <a:t>Маленькая ложь за собою большую ведёт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Picture 4" descr="0_8c17_3ce6e5eb_L"/>
          <p:cNvPicPr/>
          <p:nvPr/>
        </p:nvPicPr>
        <p:blipFill>
          <a:blip r:embed="rId2"/>
          <a:stretch/>
        </p:blipFill>
        <p:spPr>
          <a:xfrm>
            <a:off x="304920" y="304920"/>
            <a:ext cx="3695760" cy="4927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0000039960-preview"/>
          <p:cNvPicPr/>
          <p:nvPr/>
        </p:nvPicPr>
        <p:blipFill>
          <a:blip r:embed="rId3"/>
          <a:srcRect l="0" t="0" r="0" b="11799"/>
          <a:stretch/>
        </p:blipFill>
        <p:spPr>
          <a:xfrm>
            <a:off x="4114800" y="304920"/>
            <a:ext cx="4724280" cy="3112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2571-l1"/>
          <p:cNvPicPr/>
          <p:nvPr/>
        </p:nvPicPr>
        <p:blipFill>
          <a:blip r:embed="rId4"/>
          <a:srcRect l="0" t="15041" r="0" b="16524"/>
          <a:stretch/>
        </p:blipFill>
        <p:spPr>
          <a:xfrm>
            <a:off x="2895480" y="3505320"/>
            <a:ext cx="2759040" cy="3200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2"/>
          <p:cNvPicPr/>
          <p:nvPr/>
        </p:nvPicPr>
        <p:blipFill>
          <a:blip r:embed="rId5"/>
          <a:stretch/>
        </p:blipFill>
        <p:spPr>
          <a:xfrm>
            <a:off x="5943600" y="3276720"/>
            <a:ext cx="304812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609480" y="304920"/>
            <a:ext cx="8375760" cy="57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rebuchet MS"/>
              </a:rPr>
              <a:t>  </a:t>
            </a:r>
            <a:r>
              <a:rPr b="1" lang="ru-RU" sz="6000" spc="-1" strike="noStrike">
                <a:solidFill>
                  <a:srgbClr val="ff0066"/>
                </a:solidFill>
                <a:latin typeface="Trebuchet MS"/>
              </a:rPr>
              <a:t>Это полезно помнить.</a:t>
            </a:r>
            <a:endParaRPr b="0" lang="en-US" sz="6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Trebuchet MS"/>
              </a:rPr>
              <a:t>1. Для ухода за носом существует носовой платок, его надо всегда носить с собой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rebuchet MS"/>
              </a:rPr>
              <a:t>2. Ногти необходимо один раз в неделю постригать ножницами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rebuchet MS"/>
              </a:rPr>
              <a:t>3. Остатки пищи между зубами удаляют зубочисткой</a:t>
            </a:r>
            <a:r>
              <a:rPr b="1" lang="ru-RU" sz="2600" spc="-1" strike="noStrike">
                <a:solidFill>
                  <a:srgbClr val="ff33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ipe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4" descr="i"/>
          <p:cNvPicPr/>
          <p:nvPr/>
        </p:nvPicPr>
        <p:blipFill>
          <a:blip r:embed="rId2"/>
          <a:stretch/>
        </p:blipFill>
        <p:spPr>
          <a:xfrm>
            <a:off x="152280" y="1143000"/>
            <a:ext cx="2894040" cy="41148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0" y="471960"/>
            <a:ext cx="88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«Курить  – здоровью вредить!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6" descr="Картинка 66 из 685">
            <a:hlinkClick r:id="rId3"/>
          </p:cNvPr>
          <p:cNvPicPr/>
          <p:nvPr/>
        </p:nvPicPr>
        <p:blipFill>
          <a:blip r:embed="rId4"/>
          <a:srcRect l="5260" t="7071" r="4409" b="3984"/>
          <a:stretch/>
        </p:blipFill>
        <p:spPr>
          <a:xfrm>
            <a:off x="5029200" y="1295280"/>
            <a:ext cx="3701880" cy="42674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2057400" y="2744280"/>
            <a:ext cx="4876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гарета в нашей жизн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нимает пять минут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курил ты их полтыщи -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живешь поменьше, друг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чем же смысл?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не курить!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жизнью дорожить!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здоровье - это важно -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жет каждый сохранить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380520" y="304920"/>
            <a:ext cx="860436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00"/>
                </a:solidFill>
                <a:latin typeface="Trebuchet MS"/>
              </a:rPr>
              <a:t>ЖЕЛУДОК                         МОЗГ                        СЕРДЦ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4" descr="180px-Gray1050-stomach"/>
          <p:cNvPicPr/>
          <p:nvPr/>
        </p:nvPicPr>
        <p:blipFill>
          <a:blip r:embed="rId2"/>
          <a:stretch/>
        </p:blipFill>
        <p:spPr>
          <a:xfrm>
            <a:off x="304920" y="1447920"/>
            <a:ext cx="2895480" cy="24382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7"/>
          <p:cNvSpPr/>
          <p:nvPr/>
        </p:nvSpPr>
        <p:spPr>
          <a:xfrm>
            <a:off x="3124080" y="396252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Times New Roman"/>
              </a:rPr>
              <a:t>ЛЁГ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9" descr="180px-Human_brain_NIH"/>
          <p:cNvPicPr/>
          <p:nvPr/>
        </p:nvPicPr>
        <p:blipFill>
          <a:blip r:embed="rId3"/>
          <a:stretch/>
        </p:blipFill>
        <p:spPr>
          <a:xfrm>
            <a:off x="3352680" y="838080"/>
            <a:ext cx="3048120" cy="2217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350px-Heart_ru_svg"/>
          <p:cNvPicPr/>
          <p:nvPr/>
        </p:nvPicPr>
        <p:blipFill>
          <a:blip r:embed="rId4"/>
          <a:stretch/>
        </p:blipFill>
        <p:spPr>
          <a:xfrm>
            <a:off x="5810400" y="838080"/>
            <a:ext cx="3333600" cy="471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1" descr="200px-Lungs_Ru"/>
          <p:cNvPicPr/>
          <p:nvPr/>
        </p:nvPicPr>
        <p:blipFill>
          <a:blip r:embed="rId5"/>
          <a:stretch/>
        </p:blipFill>
        <p:spPr>
          <a:xfrm>
            <a:off x="2514600" y="4267080"/>
            <a:ext cx="3429000" cy="2441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2-19T19:11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